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818-D281-457B-8863-3B684B7F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627-A7EA-4F22-98DD-4CC2FE61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6B2-147C-487C-BB4A-ED273B6A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BB2-8317-48A6-8A82-EB27C9C5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D01-BD7B-47BA-9F7C-01036A0A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4CD-7EAA-4F31-9EB8-445AEB21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995-7C33-458E-AB86-234D95C8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3C2-87E1-4CCB-8EDC-EF5AE105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F32-6842-4345-A14B-6727C411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4DE-4179-4012-8EE3-2DA07E26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F1B-A263-4E46-982A-00D375EA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5C1-C1D8-41DD-A3DE-A468187B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0B0B-DF57-4153-8004-A41DBB6D9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2 Len v mene Ježi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zdro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mene Ježiš spás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veta záchrana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mene viera má štít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zvodmi sat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jedinom me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a previn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nám odpustené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še 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t v nikom inom spas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spásnom mene tom, čo Otec zvolil pre Sy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tal sa dieťať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jedinom me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a previn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nám odpustené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še 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ľa zvesti Písma stane s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deň Pánom určený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k menu Ježiš prizná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bude spas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jedinom me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a previn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nám odpustené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še je spase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7:31:13Z</dcterms:modified>
  <cp:revision>20</cp:revision>
  <dc:subject/>
  <dc:title>Je veľký náš Pán, on slávy je Kráľ Nech do všetkých strán  spev vrúcnych znie chvál.</dc:title>
</cp:coreProperties>
</file>